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315900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Тема 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Вводная лек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Понятие «информация»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едеральный закон «Об информации, информационных технологиях и  защите информации» дает следующее определение инфор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я — сведения (сообщения, данные) независимо от формы их представления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Способы документирования (способы фиксации информации)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ы документирования — запись информации на различных носителях по установленным правил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волюция материалов на которых закрепляли информац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ревности высекались на камне, стенах пирамид (Егип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ереписки применяли глиняные и деревянные дощечки, папирус, пергамент, бума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ХIХ века фото-документы, фоно-документы, кинодокум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Х века магнитные ленты, цифровые носители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Документ — элемент внутренней организации любого учреждения, предприятия, фирмы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я явля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анием для принятия управленческих ре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азатель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ом для обобщ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ом справочно-поисковой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Документирование информации позволяет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фиксировать ее на определенном носител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дать ей необходимую организационную форм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стоверить подлинность и юридическую сил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абдить необходимыми реквизитами для ее идентификации в целях поиска и ис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уществить полноценную информационную поддержку управленческих процесс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копить информационный ресурс в целях развития организации и сохранения индивидуальной памяти о ней во времени и простран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и  и задачи курса «Организация и технология документационного обеспечения управле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онятие и развитие термина «делопроизводств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Что в себя включает современное делопроизвод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Термин «делопроизводство» и «документационное обеспечение управления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акие основные понятия используются в курсе «Организация и технология документационного обеспечения управле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   Санкина Л.В. Делопроизводство в коммерческой организации: на примере акционерного общества.- М.: Изд-во МЦФЭР: 2009.-432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 Федеральный закон от 29 июля 2006 г. «Об информации, информационных технологиях и о защите информации» // Российская газета от 30 июля 200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AA33-4D8A-41C5-B196-0E3362EE8CF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4859-6D52-4D27-9293-FC08A7A0CAD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Цель курса «Организация и технология документационного обеспечения управления»: 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260440"/>
            <a:ext cx="82296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углубленное изучение особенностей формирования и развития систем национального делопроизводства в различные исторические периоды и ознакомление с теорией и практикой организации современного документационного обеспечения на основе научно обоснованных принципов и методов его совершенств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дачи курса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«Организация и технология документационного обеспечения управления»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ледить становление и развитие понятий «делопроизводство» и «документационное обеспечение управления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ветить место делопроизводства в процессах у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накомить с историей развития системы государственного делопроизвод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формировать у студентов рациональные подходы к решению задач организации работы с документами в учрежд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накомить студентов с современными типовыми структурами служб ДО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ить современные технологии документационного обеспечения уп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результате изучения курса «Организация и технология документационного обеспечения управления» студент должен знать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нденции развития делопроизводства в государственном аппарате управления в различные исторические пери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сти формирования структуры, функций, штатного состава делопроизводственных подразделений и обязанности служащих в различные исторические пери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организации работы с документами от развития аппарата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и технологию обработки документов на основе использования средств организационной и вычислительной техни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ые направления развития и пути совершенствования документационного обеспечения управлен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научные и практические проблемы организации документационного обеспечения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но-методические документы, регламентирующие документационное обеспечение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омерности изменения объёма документооборот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циональную технологию приёма, прохождения, подготовки и отправления документов в традиционных и автоматизированных системах документационного обеспечения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бования к ручным и автоматизированным информационно-поисковым системам (ИПС) по документам организаци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ку контроля за сроками исполнения документ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ку составления классификационных справочников (номенклатура дел, классификаторы различных видов, перечень документов со сроками хранения) и направления их использова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ю оперативного хранения документов и подготовки документов к передаче в ведомственный архив (включая экспертизу ценности документов, оформление дел, составление описе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тудент должен уметь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ифицировать и проектировать формы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формлять документы в соответствии с требованиями государственных стандар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дрять унифицированные формы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ять историческую и практическую ценность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риступая к изучению курса, прежде всего следует ознакомиться с основными профессиональными терминами и определениями постоянно встречающимися в работе с документами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785960"/>
            <a:ext cx="82296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отрасль деятельности, обеспечивающая документирование и организацию работы с официальными докумен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оначально термин появился в устной речи (предположительно в XVIII в.) и означал процесс решения (производства) дела: "дело производить - решать вопрос. В ходе решения возникла необходимость закрепления результата, например, достигнутой договоренности". Для этого издревле издавали документы, т.к. устное слово кратковременно, могло быть забыто, искажено при передаче или не так понят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же в XVI в. употребляется слово дело как собрание документов, относящихся к какому-либо вопросу. Впервые в этом понятии слово "дело" зафиксировано в документах в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584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</a:rPr>
              <a:t>Современное делопроизводство включае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еспечение своевременного и правильного создания документов (документирование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ю работы с документами (получение, передача, обработка, учет, регистрация, контроль, хранение, систематизация, подготовка документов для сдачи в архив, уничтожение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араллельно с термином "делопроизводство" в последние десятилетия используется термин </a:t>
            </a: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документационное обеспечение управления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6220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появление связано с внедрением в управление компьютерных систем. Термины "делопроизводство" и "ДОУ" являются синонимами и применяются для обозначения одной и той же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сновные понятия курса  «Организация и технология документационного обеспечения управления» .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Организация работы с документами -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 обеспечение движения документов в аппарате управления, их использования в справочных целях и хра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Документооборот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движение документов в организации с момента их создания или получения до завершения исполнения или от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В технологию работ с документами входи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ем и первичная обработка документ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х предварительное рассмотрение и распределение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гистрация документ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нформационно-справочная работ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х справк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истематизация (формирование дел) и текущее хранение документ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Регистра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запись учетных данных о документе по установленной форме, фиксирующая факт его создания, отправления или получ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Контроль исполнения документов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совокупность действий, обеспечивающих их современное исполн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Формирование дела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группирование исполненных документов в дело в соответствии с номенклатурой дел (систематизированным перечнем наименований дел, завозить в организации, с указанием сроков их хранения, оформленным в установленном порядке) и систематизация документов внутри де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05T10:30:59Z</dcterms:modified>
  <cp:revision>121</cp:revision>
  <dc:subject/>
  <dc:title>Lecture Template </dc:title>
</cp:coreProperties>
</file>